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7.png" ContentType="image/png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B9F-CE5F-4DBF-B2D5-23C0E755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695-082D-49D5-B45E-B4C34D27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FDB-C4A6-4658-B92E-2D028DBA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D0F-2048-44BF-97E5-109A5B82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CF66-7334-4EF4-BB43-ED64C0EB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C8C2-8073-46AB-AB1D-3A87BA8B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4BF7-058E-4D55-BC53-1C655DD8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C1DB-6A69-457F-8F18-B15B5387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7380-B349-466B-A00F-15155F00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D069-BEB8-432B-AFEC-EB1E65BF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600B-A09D-40EA-ABFA-ADE4911F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642-7A13-4FAB-A029-ABF6A745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54A4-02C8-499D-A7EC-2D945DAE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21E2-2620-42B6-BAC4-67076BB2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CDF7-D03A-41B5-9A92-37021363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D7C9-B9F9-4B34-8B4B-B9FDF898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D034-8ED0-4512-8676-64375BD7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CF47-9C09-4FBB-9033-5549EB86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8F32-25F2-4735-B980-09E2581F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B75AC-434C-4CDF-8F52-F6919718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1A2B-8345-4DE6-AF8B-CC20FBE9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21CD-B61D-4EE6-AD47-FD9D66FE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6AD-D895-4A6D-9977-C3A17B46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A434-2DCC-4071-A41E-FF0DF0E8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3A0E-4CA7-437B-9673-A11B91A0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0BDC-64DE-453D-859E-12590B41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FC6F-628B-4A9F-BBE0-9E1FF279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8604-57EC-440E-83C5-51833D0D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B974-E274-4C90-8B63-4A949BD8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0DD8-7433-4AC2-9B8D-F9F2792C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EC26-377B-48B6-A33D-4CCDF3C4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AD6E1-4F19-404C-8A32-FFF0B2FD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E606-A6EF-4006-ABCA-7D17377B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BEC-6346-492F-A257-F0483B6E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63B0-39D3-4484-9C2E-02FFEED2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C9103-CBA5-4EB9-AEAC-A84FFDE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4784C-1CE4-4049-8840-36452A77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BA1A-F8E6-41C5-B982-AD90990F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6F176-33D7-47ED-9973-D38C2C08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6EAB7-9C9F-4AD5-BFAA-D0BC45DB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6B4C1-756E-4B99-BF6C-8530CF11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F529-8183-4BE4-A5DC-6A107BA6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8070-46A7-458E-94BB-F6F97C5F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5CAD1-0D8E-49A1-9170-C9E0B70D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353-E3E6-4803-9E23-34CBA9DD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B9A36-CDC3-4D87-B771-858478D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6FAFC-2708-487B-88ED-AA7A847F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ACF81-1926-4EB7-A175-40D27DC4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98ACA-E78E-43E4-B66B-94020587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9EFC2-B84B-468F-81B3-73722211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E247B-5A38-4417-927B-499A1DD0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99E06-04CF-40B4-8B9C-7D5C3FF9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6C4DC-E9DE-40BD-A967-64F819A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00D0-218B-4F2D-ADF4-A0D8A66B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E3F43-85F5-49DC-ADE9-341E4644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BD8-9176-4E5D-8909-5E01E66F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AEC9-4804-4C54-9C46-19E66B61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BCD02-9D69-433E-A701-6B7DB1D1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78312-733D-4202-A8B5-B7675B5C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13616-C6E1-4824-A98E-FDEC3A30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D3AAE-F785-409B-823D-191E1F10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7D8B1-C7F1-4B62-A830-32F3898C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8701A-6492-43C9-9F0C-B2D277D9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E4FF1-8000-48BF-8659-F6AB4E6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8994C-48A3-4703-A0B4-1A7514D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A3D40-2929-4E51-856C-43BA942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73B-A313-4833-ABEF-47811D2F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66AD5-E2DE-4CF5-BB54-52270572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F4D77-0595-4087-B545-F33E9D5F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0E72E-41CE-4E36-BD89-4EC86274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0477C-4462-4462-9F0C-30CC6E4D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19A2D-6973-4B10-964F-2F12D27F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CF318-DD38-419C-A007-7781570E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3AAF5-92E1-4358-A9DF-3C5408A0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4B5C7-E860-4568-B945-46D70C27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C71A6-809F-40F0-89CF-47C4239D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8553D-C24B-4573-85EF-771CBF7E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8C1-6386-4B7B-8B7C-E01028A3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D4276-EE1B-4BB0-911A-68B218C9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5525F-1638-4623-A2E5-BB455D22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0C1A7-452D-4A9E-A64E-67D366D0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EC214-DDD3-48FE-920A-4A25BCDC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BA74F-570E-4102-98AE-E3BCAF24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09E-F619-4A93-9476-32E7163F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E9C8-9DAF-41B4-A819-D7473D6AEACE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1B9A-47A8-4C8D-8A35-0B1171AC2DDD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3606-A719-4942-8D55-58C1243AC8F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CE31-6EFB-4A8A-A1B5-E3D26726890E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EC99-3DFB-4FF6-8F9A-7854A1B6338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85D8-F7EE-40CD-B27C-E58C0FD1DA4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7C81-53CF-49B3-951A-0AF1923F772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АЗДАИЗМ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ЗОРОАСТРИЗМ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ЗАРАТУШТРА, </a:t>
            </a: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I </a:t>
            </a: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ТЫС. </a:t>
            </a: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BC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8" name="Объект 3" descr=""/>
          <p:cNvPicPr/>
          <p:nvPr/>
        </p:nvPicPr>
        <p:blipFill>
          <a:blip r:embed="rId1"/>
          <a:stretch/>
        </p:blipFill>
        <p:spPr>
          <a:xfrm>
            <a:off x="2898720" y="1843200"/>
            <a:ext cx="33465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ЗОРОАСТРИЗМ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МАЗДАИЗМ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АВЕСТИЗМ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МИТРАИЗМ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ПАРСИЗМ,   Х 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ОГНЕПОКЛОНСТВО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1555920" y="270000"/>
            <a:ext cx="55846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АВЕСТА, 21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ЯСНА молитва     ГАТЫ   песни  238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ЯШТЫ     восхваления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ВЕНДИДАД  закон против дэвов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ВИСПЕРЕД   служени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ГОСПОДИН МУДРОСТЬ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Мы славим Ахурамазду, который создал скот и Арту, воды и растения, свет и землю и все благо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Гаты 37,1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Объект 3" descr=""/>
          <p:cNvPicPr/>
          <p:nvPr/>
        </p:nvPicPr>
        <p:blipFill>
          <a:blip r:embed="rId1"/>
          <a:stretch/>
        </p:blipFill>
        <p:spPr>
          <a:xfrm>
            <a:off x="-31680" y="-39600"/>
            <a:ext cx="91756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333000"/>
            <a:ext cx="82612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Book Antiqua"/>
              </a:rPr>
              <a:t>СПЕНТА МАЙНЬЮ И АНГРА МАЙНЬЮ</a:t>
            </a: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53360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Оба изначальных духа явились как пара близнецов, добрый и дурной  в мысли, слове, деле. И между ними благомыслящие сделали правильный выбор, не зломыслящие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И когда те два духа встретились вначале, они установили </a:t>
            </a: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[</a:t>
            </a: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с одной стороны жизнь</a:t>
            </a: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]</a:t>
            </a: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[</a:t>
            </a: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с другой</a:t>
            </a: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]</a:t>
            </a: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- разрушение жизн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Гаты 30, 3- 4 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Book Antiqua"/>
              </a:rPr>
              <a:t>СПЕНТА</a:t>
            </a: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                         </a:t>
            </a:r>
            <a:r>
              <a:rPr b="0" lang="ru-RU" sz="3500" spc="-1" strike="noStrike">
                <a:solidFill>
                  <a:srgbClr val="c00000"/>
                </a:solidFill>
                <a:latin typeface="Book Antiqua"/>
              </a:rPr>
              <a:t> АНГР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255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Жизнь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здоровь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Земля, вода, огонь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Добро, истин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Счастье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Смерть болезнь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Пустота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Зло, ложь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Страдани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Объект 3" descr=""/>
          <p:cNvPicPr/>
          <p:nvPr/>
        </p:nvPicPr>
        <p:blipFill>
          <a:blip r:embed="rId1"/>
          <a:stretch/>
        </p:blipFill>
        <p:spPr>
          <a:xfrm>
            <a:off x="2584440" y="345960"/>
            <a:ext cx="4078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ВЫБОР И ВОЗДАЯ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71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Пройдя через испытания в красном огне и расплавленном металле, друджевцы войдут в царство мрака, а артовцы – в царство света                      Гаты 51, 9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Исповедую себя поклонником Мазды, зороастрийцем…Клятвой обязуюсь вершить добрую мысль, доброе слово, доброе деяние          Ясна 12, 8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Объект 3" descr=""/>
          <p:cNvPicPr/>
          <p:nvPr/>
        </p:nvPicPr>
        <p:blipFill>
          <a:blip r:embed="rId1"/>
          <a:stretch/>
        </p:blipFill>
        <p:spPr>
          <a:xfrm>
            <a:off x="2162160" y="-39600"/>
            <a:ext cx="47466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Book Antiqua"/>
              </a:rPr>
              <a:t>НАВДЖОТ, СЕДРЕ, КОШТ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6" name="Объект 3" descr=""/>
          <p:cNvPicPr/>
          <p:nvPr/>
        </p:nvPicPr>
        <p:blipFill>
          <a:blip r:embed="rId1"/>
          <a:stretch/>
        </p:blipFill>
        <p:spPr>
          <a:xfrm>
            <a:off x="3083040" y="1484280"/>
            <a:ext cx="29779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ТРАНСФОРМАЦ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Gothic"/>
              </a:rPr>
              <a:t>АХУРА МАЗДА           АНГРА МАЙНЬЮ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Gothic"/>
              </a:rPr>
              <a:t>«Ахурамазда, Анахита и Митра меня да хранят от всякой скверны и то, что мною сделано»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Gothic"/>
              </a:rPr>
              <a:t>Надпись Артаксеркса </a:t>
            </a:r>
            <a:r>
              <a:rPr b="0" lang="en-US" sz="3300" spc="-1" strike="noStrike">
                <a:solidFill>
                  <a:srgbClr val="c00000"/>
                </a:solidFill>
                <a:latin typeface="Century Gothic"/>
              </a:rPr>
              <a:t>II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Gothic"/>
              </a:rPr>
              <a:t>Саошиант</a:t>
            </a:r>
            <a:r>
              <a:rPr b="0" lang="en-US" sz="3300" spc="-1" strike="noStrike">
                <a:solidFill>
                  <a:srgbClr val="c00000"/>
                </a:solidFill>
                <a:latin typeface="Century Gothic"/>
              </a:rPr>
              <a:t> 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WHERE IS HE?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5" name="Picture 2" descr="C:\Documents and Settings\Charles\Local Settings\Temporary Internet Files\Content.IE5\O9YJK1IJ\MC900389182[1].wmf"/>
          <p:cNvPicPr/>
          <p:nvPr/>
        </p:nvPicPr>
        <p:blipFill>
          <a:blip r:embed="rId1"/>
          <a:stretch/>
        </p:blipFill>
        <p:spPr>
          <a:xfrm>
            <a:off x="2720880" y="1795320"/>
            <a:ext cx="37022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Documents and Settings\Charles\Local Settings\Temporary Internet Files\Content.IE5\6JYLAZOX\MC900331577[1].wmf"/>
          <p:cNvPicPr/>
          <p:nvPr/>
        </p:nvPicPr>
        <p:blipFill>
          <a:blip r:embed="rId1"/>
          <a:stretch/>
        </p:blipFill>
        <p:spPr>
          <a:xfrm>
            <a:off x="1530360" y="326880"/>
            <a:ext cx="608328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МФ. 4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1 Тогда Иисус возведен был Духом в пустыню, для искушения от диавола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3 И приступил к нему искуситель и сказал: если Ты Сын Божий, скажи чтобы камни сии сделались хлебам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6...если Ты Сын Божий, бросься вниз…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МФ. 4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8 Берет Его диавол на весьма высокую гору, и показывает ему все царства мира…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9 И говорит Ему: все это дам Тебе, если падши поклонишься мн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Н. 12: 31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entury Gothic"/>
              </a:rPr>
              <a:t>Ныне суд миру сему; ныне князь мира сего изгнан будет вон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БОГ НАШЕГО ВРЕМЕН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Для неверующих, у которых бог века сего ослепил умы, чтобы для них не воссиял свет благовествования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                        </a:t>
            </a: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2-е Кор. 4: 4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УЧЕНИЕ О ДУХЕ ЗЛ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6" name="Объект 3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296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54:31Z</dcterms:created>
  <dc:creator>Muravyev</dc:creator>
  <dc:description/>
  <dc:language>en-US</dc:language>
  <cp:lastModifiedBy>Muravyev</cp:lastModifiedBy>
  <dcterms:modified xsi:type="dcterms:W3CDTF">2012-12-02T17:29:18Z</dcterms:modified>
  <cp:revision>6</cp:revision>
  <dc:subject/>
  <dc:title>Зороастризм</dc:title>
</cp:coreProperties>
</file>